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A85F-1875-410B-B2F7-9A72BF4FD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4EA7-24FF-4B63-B720-9DE3A7A9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18C4-FE24-47D6-863A-09856BB3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95D1-195E-4BF7-97EC-47366D34B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13D1-6E5D-42E5-A75C-D7429F9F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E9D1-4075-427A-B3AB-910266AF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70D5-86CA-4533-B102-B78FF07C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86B9-6CEA-474E-BF0E-1D43FAB8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4627-EAF0-4C37-9D9E-8F204194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B789-7E48-4297-BC9E-8B809284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6588-BF98-49D0-BB3D-F20D8314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86AA-2F22-4A56-9082-A315BAE7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330C-DAC7-44FC-ADEB-B977841863F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haltsplatzhalter 4" descr=""/>
          <p:cNvPicPr/>
          <p:nvPr/>
        </p:nvPicPr>
        <p:blipFill>
          <a:blip r:embed="rId1"/>
          <a:stretch/>
        </p:blipFill>
        <p:spPr>
          <a:xfrm>
            <a:off x="84240" y="404640"/>
            <a:ext cx="8975520" cy="629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45:44Z</dcterms:modified>
  <cp:revision>17</cp:revision>
  <dc:subject/>
  <dc:title>Folie 1</dc:title>
</cp:coreProperties>
</file>